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0A2-3162-4F6F-80F7-4E1CE8CF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8EC-4E31-4759-9602-7ACA3E19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E14-9650-4D5F-B7F7-C10F78F5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E92-A367-40CC-9DBF-9948F01B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D77D-0A02-45E4-B3B9-D6A6D4BC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005C-F659-4910-B854-F49A2D0F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A42A-EB18-4042-97CA-14A81EA7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60C7-1C52-47F0-B7AF-56D3D8C0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B62E-FA3A-4DB2-B0C7-11EB9178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3D6B-C050-4F6B-B2D9-8DE0215A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51E6-1739-47F4-964E-38CD81DF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F17-222D-4C0B-9D64-98AB2664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8F7E-92E6-4FBC-99F5-AE432B8D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ED4F-6638-4035-83BA-2475267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3BE1-DC84-42CA-B1E9-E6A4279E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F10B-3841-4B3E-84C5-FF9F81A5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1F1E-9ADC-42FA-9DF9-C4C8F8B8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D77F9-B248-4020-82B5-319DF8D9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B40A-DBEF-41B8-A5B7-1F761DAF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762E-2078-4AFA-B5F8-8804C3E0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4C78-79A0-4772-8FA7-4C05BFD7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25FCD-51FD-42E2-90AB-6B6AB426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B86-312F-4580-925C-4379A76A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7509-F2DD-4DF4-9718-F43B27E9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54B46-FD3D-48C6-BFDC-9B8D9A56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978A-D6D4-49CB-99FD-99A6C0EA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275AE-FDBA-4005-BC4A-B2112B20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65E2-7720-41FC-B882-7580E12F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7B81-C903-4BCD-8C24-10F8B723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218D-691C-475C-A4AC-567A5FC8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B3AC8-D0E0-459B-BBCD-7F3BF543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5A04-D9C3-4A5A-851F-D4827680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94C08-5AC4-4C26-83C8-A335EABD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69F-8763-4685-B6EF-D783ACCA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98BE-ABC9-4260-AEDC-D3F00D41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41A3-121E-4F42-8CCC-54D1337F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D3CE8-D9DA-47E9-B6C3-9706D886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C0AB6-A8E7-4046-8622-2D1C779D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2A046-7140-4008-BC4A-918C680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2A5D5-42FA-436B-ADCA-5719AA0A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BA29A-846B-4131-B21B-3C527C02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90434-E61A-4158-AF4E-7D72D0C9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722C8-E4C0-4DB9-BE1B-763987E6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A89-BCB2-4144-A850-B3C7CA74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E94-89AA-4319-87CC-BAF0970A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84F-9624-49BF-856E-C8B0E5C9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DCC-B086-446E-B705-B3FB874C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5EE-B137-46AB-867B-BBDB51BA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D601-EBF9-4815-BDC4-7AE568E5AEEA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2761-ABD0-4F6A-9CF4-5E5BDB204C91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DDCF-D6A7-4CE3-B5C5-99940007C8C3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D73D-65A0-4077-83BE-2CB0FFB31A41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earch.epnet.com/" TargetMode="External"/><Relationship Id="rId2" Type="http://schemas.openxmlformats.org/officeDocument/2006/relationships/hyperlink" Target="http://search.epne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ím 1" descr=""/>
          <p:cNvPicPr/>
          <p:nvPr/>
        </p:nvPicPr>
        <p:blipFill>
          <a:blip r:embed="rId1"/>
          <a:stretch/>
        </p:blipFill>
        <p:spPr>
          <a:xfrm>
            <a:off x="244440" y="1371600"/>
            <a:ext cx="8717040" cy="2273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Constantia"/>
              </a:rPr>
              <a:t>Őssejtterápia a gyermekgyógyászatb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Web of Science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finomítások ellenére sem sikerült konkrétan a gyermekgyógyászattal foglalkozó őssejt terápiai forrásra akadno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onstantia"/>
              </a:rPr>
              <a:t>Ezért ismét módosítottam a keresési feltételeke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Title” mezőbe: </a:t>
            </a:r>
            <a:r>
              <a:rPr b="0" i="1" lang="hu-HU" sz="2200" spc="-1" strike="noStrike">
                <a:solidFill>
                  <a:srgbClr val="000000"/>
                </a:solidFill>
                <a:latin typeface="Constantia"/>
              </a:rPr>
              <a:t>stem cell therap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Topic” mezőbe: </a:t>
            </a:r>
            <a:r>
              <a:rPr b="0" i="1" lang="hu-HU" sz="2200" spc="-1" strike="noStrike">
                <a:solidFill>
                  <a:srgbClr val="000000"/>
                </a:solidFill>
                <a:latin typeface="Constantia"/>
              </a:rPr>
              <a:t>pediatri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Őssejtterápiával foglalkozó forrásokra vagyok kíváncsi, gyermekgyógyászat területé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Ennek megfelelően már csak </a:t>
            </a:r>
            <a:r>
              <a:rPr b="1" lang="hu-HU" sz="2400" spc="-1" strike="noStrike">
                <a:solidFill>
                  <a:srgbClr val="000000"/>
                </a:solidFill>
                <a:latin typeface="Constantia"/>
              </a:rPr>
              <a:t>36 db találatot</a:t>
            </a: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 kapt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Web of Science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Tovább finomítottam a találati halmaz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258920" y="3213000"/>
          <a:ext cx="6885000" cy="3292560"/>
        </p:xfrm>
        <a:graphic>
          <a:graphicData uri="http://schemas.openxmlformats.org/drawingml/2006/table">
            <a:tbl>
              <a:tblPr/>
              <a:tblGrid>
                <a:gridCol w="2295360"/>
                <a:gridCol w="2295720"/>
                <a:gridCol w="2293920"/>
              </a:tblGrid>
              <a:tr h="12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N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RE FINOMÍTUNK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UTÁN A TALÁLATI EREDMÉ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12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saearch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kutatási területe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diatr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gyermekgyógyász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82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blication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Kiadás é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0-20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82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Nyelve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ang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Web of Science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Constantia"/>
              </a:rPr>
              <a:t>Ezek az eddigi legpontosabb eredmények ebben az adatbázisb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Zama, Daniele; Masetti, Riccardo; Vendemini, Francesca; et al.: Clinical effectiveness of early treatment with hyperbaric oxygen therapy for severe late-onset hemorrhagic cystitis after hematopoietic stem cell transplantation in pediatric patients. In: PEDIATRIC TRANSPLANTATION, 17. (2013), 1.sz. 86-91.p.</a:t>
            </a:r>
            <a:br>
              <a:rPr sz="1400"/>
            </a:b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DOI: 10.1111/petr.1203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Pham, Huy P.; Rogoza, Kim; Stotler, Brie; et al.: Granulocyte Transfusion Therapy in Pediatric Patients After Hematopoietic Stem Cell Transplantation: A 5-Year Single Tertiary Care Center Experience. In: JOURNAL OF PEDIATRIC HEMATOLOGY ONCOLOGY, 34. (2012) 8.sz. E332-E336.p.</a:t>
            </a:r>
            <a:br>
              <a:rPr sz="1400"/>
            </a:b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DOI: 10.1097/MPH.0b013e3182580d4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Bernstein, Harold S.; Srivastava, Deepak: Stem cell therapy for cardiac disease. In: PEDIATRIC RESEARCH, 71. (2012) 4.sz. 491-499.sz.</a:t>
            </a:r>
            <a:br>
              <a:rPr sz="1400"/>
            </a:b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DOI: 10.1038/pr.2011.6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Monnereau-Laborde, Sylvie; Munzer, Caroline; Valteau-Couanet, Dominique; et al.: A Dose-Intensive Approach (NB96) for Induction Therapy Utilizing Sequential High-Dose Chemotherapy and Stem Cell Rescue in High-Risk Neuroblastoma in Children Over 1 Year of Age . In: PEDIATRIC BLOOD &amp; CANCER, 57. (2011) 6.sz. 965-971.p.</a:t>
            </a:r>
            <a:br>
              <a:rPr sz="1400"/>
            </a:br>
            <a:r>
              <a:rPr b="0" i="1" lang="hu-HU" sz="1400" spc="-1" strike="noStrike">
                <a:solidFill>
                  <a:srgbClr val="000000"/>
                </a:solidFill>
                <a:latin typeface="Constantia"/>
              </a:rPr>
              <a:t>DOI: 10.1002/pbc.2323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Science Direct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(http://www.sciencedirect.com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Science Direct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„Search”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menüjét kiválasztva van lehetőség keresés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38040" y="3429000"/>
            <a:ext cx="85917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Science Direct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nnek eredményeként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9 db találato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apta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bben az adatbázisban is van lehetőség további szűrésre a bal oldal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Tovább finomítottam a találati halmaz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332000" y="4005360"/>
          <a:ext cx="6669000" cy="2338200"/>
        </p:xfrm>
        <a:graphic>
          <a:graphicData uri="http://schemas.openxmlformats.org/drawingml/2006/table">
            <a:tbl>
              <a:tblPr/>
              <a:tblGrid>
                <a:gridCol w="2222280"/>
                <a:gridCol w="2222640"/>
                <a:gridCol w="2224080"/>
              </a:tblGrid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N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RE FINOMÍTUNK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UTÁN A TALÁLATI ERED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tent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tartalom típ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our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folyóira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tém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em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őssej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Science Direct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onstantia"/>
              </a:rPr>
              <a:t>A találati halmaz már megfelel az olvasó igényeinek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Karen Young, Joshua M. Hare: Stem cells in cardiopulmonary development: Implications for novel approaches to therapy for pediatric cardiopulmonary disease. In: Progress in Pediatric Cardiology, 25. (2008) 1.sz. 37-49.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Erik G. Pearson, Alan W. Flake: Stem cell and genetic therapies for the fetus. In: Seminars in Pediatric Surgery, 22. (2013) 1.sz. 56-61.p.</a:t>
            </a:r>
            <a:br>
              <a:rPr sz="2400"/>
            </a:b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Keresés Ebsco adatbázisb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lábbi mezőbe beírva a keresőkérdést összesen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47 talála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jelenik me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85471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Keresés Ebsco adatbázisb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bben az adatbázisban is van lehetőség további szűrésre a bal oldal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32000" y="3284640"/>
          <a:ext cx="6740280" cy="3224160"/>
        </p:xfrm>
        <a:graphic>
          <a:graphicData uri="http://schemas.openxmlformats.org/drawingml/2006/table">
            <a:tbl>
              <a:tblPr/>
              <a:tblGrid>
                <a:gridCol w="2246400"/>
                <a:gridCol w="2247840"/>
                <a:gridCol w="2246040"/>
              </a:tblGrid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N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RE FINOMÍTUNK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UTÁN A TALÁLATI ERED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adás dát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8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ljes szö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sak a full-textes tartalmak jelennek m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árgykö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em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em cells - transpla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Keresés Ebsco adatbázisb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00"/>
                </a:solidFill>
                <a:uFillTx/>
                <a:latin typeface="Constantia"/>
              </a:rPr>
              <a:t>A találati halmaz már megfelel az olvasó igényeinek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Constantia"/>
              </a:rPr>
              <a:t>Malär, Reta; Sjöö, Fredrik; Rentsch, Katharina; Hassan, Moustapha; Güngör, Tayfun: Therapeutic drug monitoring is essential for intravenous busulfan therapy in pediatric hematopoietic stem cell recipients. In:  Pediatric Transplantation, 15. (2011) 6.sz. 580-588.p. </a:t>
            </a:r>
            <a:br>
              <a:rPr sz="2200"/>
            </a:br>
            <a:r>
              <a:rPr b="0" i="1" lang="hu-HU" sz="2200" spc="-1" strike="noStrike">
                <a:solidFill>
                  <a:srgbClr val="000000"/>
                </a:solidFill>
                <a:latin typeface="Constantia"/>
              </a:rPr>
              <a:t>DOI: 10.1111/j.1399-3046.2011.01529.x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Constantia"/>
              </a:rPr>
              <a:t>Flores, Francisco X.; Brophy, Patrick D.; Symons, Jordan M;  et. al.: Continuous renal replacement therapy (CRRT) after stem cell transplantation. A report from the prospective pediatric CRRT Registry Group. In: Pediatric Nephrology, 23. (2008) 4.p. 625-630.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Hasonlítsa össze a talált külföldi és magyar szakirodalmat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565360"/>
            <a:ext cx="82296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agyar szakirodalom gyűjtése ennél az olvasónál elhanyagolható, mivel ázsiai diák prezentációjára szeretné felhasználni az összegyűjtött irodalmat. Ezért csak az angol szakirodalom jöhet szób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Felad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feladat szerint egy ázsiai diák számára kell bibliográfiát összeállítani „</a:t>
            </a: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őssejtterápia gyermekgyógyászatban történő alkalmazásának</a:t>
            </a: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” szakirodalmáró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Mivel a hallgató külföldi így a legjobb választás az angol nyelvű szakirodalom összegyűjtése lesz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feladat másik részében arról kell tájékoztatást adnom, hogy szakirodalom mekkora hányada érhető el Magyarországon, mely könyvtárakban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keresési feladat megvalósítását az interneten elérhető </a:t>
            </a: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(Pécsi Tudományegyetem által előfizetett) </a:t>
            </a: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datbázisok használatával oldom me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4617b"/>
                </a:solidFill>
                <a:latin typeface="Calibri"/>
              </a:rPr>
              <a:t>Hogyan állapítja meg, hogy melyek a találatok közül Magyarországon</a:t>
            </a:r>
            <a:r>
              <a:rPr b="0" i="1" lang="hu-HU" sz="2800" spc="-1" strike="noStrike">
                <a:solidFill>
                  <a:srgbClr val="04617b"/>
                </a:solidFill>
                <a:latin typeface="Calibri"/>
              </a:rPr>
              <a:t> (nyomtatásban vagy elektronikusan) </a:t>
            </a:r>
            <a:r>
              <a:rPr b="0" lang="hu-HU" sz="2800" spc="-1" strike="noStrike">
                <a:solidFill>
                  <a:srgbClr val="04617b"/>
                </a:solidFill>
                <a:latin typeface="Calibri"/>
              </a:rPr>
              <a:t>hozzáférhető források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Magyarországon elérhető elektronikus forráso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Ez intézményenként változó, annak függvényében, hogy az adott intézmény mely folyóiratokat fizeti elő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eddig tárgyalt kereső adatbázisok mindegyike jelzi minden találatnál, a cikkhez való hozzáférhetőségének fokát: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absztrakt vagy full-tex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4617b"/>
                </a:solidFill>
                <a:latin typeface="Calibri"/>
              </a:rPr>
              <a:t>Értékelje a munkáját! Mi a véleménye a keresés eredményéről?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Jelen feladatban a </a:t>
            </a:r>
            <a:r>
              <a:rPr b="1" i="1" lang="hu-HU" sz="2400" spc="-1" strike="noStrike">
                <a:solidFill>
                  <a:srgbClr val="000000"/>
                </a:solidFill>
                <a:latin typeface="Constantia"/>
              </a:rPr>
              <a:t>PubMed, a Web of Science, Science Direct és az EBSCO</a:t>
            </a: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 adatbázisaiban kerestem rá az adott témá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Nagyon fontos, hogy a keresőkérdés kiadásakor tömör, lényegre törő kulcsszavakat alkossunk. A túl sok kulcsszó nem hoz megfelelő eredményt. Elég néhány kulcsszót beírni a keresőbe illetve a többi kulcsszót egy másik mezővel összekapcsolva sokkal pontosabb találati halmazt kapunk. Ezen felül mindegyik keresőben volt lehetőség további szűrésekre, finomításokra </a:t>
            </a: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(nyelv, témakör, dokumentum típus, kiadás időszaka, kutatási terület, téma stb.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Mindent egybevetve néhány, a keresendő témát leginkább kifejező kulcsszó pontos találati eredményt 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Köszönöm a figyelmet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nformációforrás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PubMed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www.ncbi.nlm.nih.gov/pubm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WEB of Science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http://apps.webofknowledge.com/WOS_GeneralSearch_input.do?product=WOS&amp;search_mode=GeneralSearch&amp;SID=Q1A1mcGg7GLgApKjIGm&amp;preferencesSaved=&amp;highlighted_tab=W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Science Direct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http://www.sciencedirect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EBSCO adatbáziso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http://</a:t>
            </a:r>
            <a:r>
              <a:rPr b="0" lang="hu-H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search.epnet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i szempontok, kulcsszavak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A feladat úgy kívánja, hogy a bibliográfiát ázsiai diák részére kell elkészíteni. Így a </a:t>
            </a:r>
            <a:r>
              <a:rPr b="0" i="1" lang="hu-HU" sz="2200" spc="-1" strike="noStrike">
                <a:solidFill>
                  <a:srgbClr val="000000"/>
                </a:solidFill>
                <a:latin typeface="Constantia"/>
              </a:rPr>
              <a:t>keresőkérdést angol nyelvre fordítottam le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őssejtterápia gyermekgyógyászatban = stem cell therapy in pediatric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00"/>
                </a:solidFill>
                <a:uFillTx/>
                <a:latin typeface="Constantia"/>
              </a:rPr>
              <a:t>Mindezek után meghatároztam a keresési szempontokat, kulcsszavakat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nstantia"/>
              </a:rPr>
              <a:t>stem cell therapy in pediatrics </a:t>
            </a:r>
            <a:r>
              <a:rPr b="1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 Ezeket a kulcsszavakat lehet használni együttesen vagy külö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nstantia"/>
              </a:rPr>
              <a:t>VA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1" lang="hu-HU" sz="2200" spc="-1" strike="noStrike">
                <a:solidFill>
                  <a:srgbClr val="000000"/>
                </a:solidFill>
                <a:latin typeface="Constantia"/>
              </a:rPr>
              <a:t>stem cell therapy in pediatrics”</a:t>
            </a: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 Ez azt jelenti általában, hogy ez a keresőkérdés szó szerint így szerepel pl. a  címben. Semmilyen karakter nem szerepel között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Keresés PubMed adatbázisban</a:t>
            </a:r>
            <a:br>
              <a:rPr sz="18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lsőként a PubMed (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ttp://www.ncbi.nlm.nih.gov/pubmed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resőben próbálkoztam a kereséssel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lábbi mezőbe beírtam a keresőkérdést, ami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2723 db találato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eredményezet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611280" y="4741920"/>
            <a:ext cx="80643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Keresés PubMed adatbázisb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onlap bal oldalán van lehetőség szűrésre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pl. „Publication dates” („publikációs dátum”) szeri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Itt leszűkítettem a találati halmazt az utóbbi 5 év termésére. Így alig több, mint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1000 találato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apta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ajd „Human” kategóriára való szűkítéssel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865 db találato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apta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további szűrési kategóriák haszontalanok a jelenlegi feladat szempontjábó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Web of Science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WOS keresőjében először a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„Topic”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szerint próbáltam rákeresne az adott témá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539640" y="2870280"/>
            <a:ext cx="799308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Web of Science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onstantia"/>
              </a:rPr>
              <a:t>Itt csak </a:t>
            </a:r>
            <a:r>
              <a:rPr b="1" lang="hu-HU" sz="2800" spc="-1" strike="noStrike">
                <a:solidFill>
                  <a:srgbClr val="000000"/>
                </a:solidFill>
                <a:latin typeface="Constantia"/>
              </a:rPr>
              <a:t>116 db találatot</a:t>
            </a:r>
            <a:r>
              <a:rPr b="0" lang="hu-HU" sz="2800" spc="-1" strike="noStrike">
                <a:solidFill>
                  <a:srgbClr val="000000"/>
                </a:solidFill>
                <a:latin typeface="Constantia"/>
              </a:rPr>
              <a:t> kaptam. Volt jó néhány olyan találat amiben a keresőkérdésnek csak 1-1 szava szerepelt. Így az ilyen találatok kissé távol estek a keresett tartalmaktó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onstantia"/>
              </a:rPr>
              <a:t>A következő keresésénél a </a:t>
            </a:r>
            <a:r>
              <a:rPr b="1" lang="hu-HU" sz="2800" spc="-1" strike="noStrike">
                <a:solidFill>
                  <a:srgbClr val="000000"/>
                </a:solidFill>
                <a:latin typeface="Constantia"/>
              </a:rPr>
              <a:t>„Topic”</a:t>
            </a:r>
            <a:r>
              <a:rPr b="0" lang="hu-HU" sz="2800" spc="-1" strike="noStrike">
                <a:solidFill>
                  <a:srgbClr val="000000"/>
                </a:solidFill>
                <a:latin typeface="Constantia"/>
              </a:rPr>
              <a:t> mezőbe </a:t>
            </a:r>
            <a:r>
              <a:rPr b="0" i="1" lang="hu-HU" sz="2800" spc="-1" strike="noStrike">
                <a:solidFill>
                  <a:srgbClr val="000000"/>
                </a:solidFill>
                <a:latin typeface="Constantia"/>
              </a:rPr>
              <a:t>"stem cell therapy"</a:t>
            </a:r>
            <a:r>
              <a:rPr b="0" lang="hu-HU" sz="2800" spc="-1" strike="noStrike">
                <a:solidFill>
                  <a:srgbClr val="000000"/>
                </a:solidFill>
                <a:latin typeface="Constantia"/>
              </a:rPr>
              <a:t> keresőkérdést írtam idézőjelekkel. A találatok mindegyikében </a:t>
            </a:r>
            <a:r>
              <a:rPr b="1" lang="hu-HU" sz="2800" spc="-1" strike="noStrike">
                <a:solidFill>
                  <a:srgbClr val="000000"/>
                </a:solidFill>
                <a:latin typeface="Constantia"/>
              </a:rPr>
              <a:t>(2425 db)</a:t>
            </a:r>
            <a:r>
              <a:rPr b="0" lang="hu-HU" sz="2800" spc="-1" strike="noStrike">
                <a:solidFill>
                  <a:srgbClr val="000000"/>
                </a:solidFill>
                <a:latin typeface="Constantia"/>
              </a:rPr>
              <a:t> egy az egyben szerepelt a fenti keresőkérdés. Tehát mindhárom szó szerepel egyszerre, egymás után ami az idézőjelek között olvashat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Keresés Web of Science adatbázisb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találati oldal bal szélén van lehetőség finomítani a találatok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Én a következő finomításokat végeztem e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42920" y="3429000"/>
          <a:ext cx="7174080" cy="2948040"/>
        </p:xfrm>
        <a:graphic>
          <a:graphicData uri="http://schemas.openxmlformats.org/drawingml/2006/table">
            <a:tbl>
              <a:tblPr/>
              <a:tblGrid>
                <a:gridCol w="2390760"/>
                <a:gridCol w="2392560"/>
                <a:gridCol w="2390760"/>
              </a:tblGrid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N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RE FINOMÍTUNK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OMÍTÁS UTÁN A TALÁLATI ERED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 Ty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dokumentum típu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cik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43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blication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Kiadás é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1,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6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ngu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Nyelve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ango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0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12:10:44Z</dcterms:created>
  <dc:creator>Hallgató</dc:creator>
  <dc:description/>
  <dc:language>en-US</dc:language>
  <cp:lastModifiedBy>Hallgató</cp:lastModifiedBy>
  <dcterms:modified xsi:type="dcterms:W3CDTF">2013-05-09T12:56:20Z</dcterms:modified>
  <cp:revision>11</cp:revision>
  <dc:subject/>
  <dc:title>Orvosi és egészségtudományi tájékoztatás</dc:title>
</cp:coreProperties>
</file>